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49D957AE-0D74-42E1-8046-3286591E50C7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4424786B-048B-4AF9-9ADA-17063DA0148A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dd@cmu.edu" TargetMode="External"/><Relationship Id="rId2" Type="http://schemas.openxmlformats.org/officeDocument/2006/relationships/hyperlink" Target="mailto:ss@cmu.edu" TargetMode="External"/><Relationship Id="rId3" Type="http://schemas.openxmlformats.org/officeDocument/2006/relationships/hyperlink" Target="mailto:tt@cmu.edu" TargetMode="External"/><Relationship Id="rId4" Type="http://schemas.openxmlformats.org/officeDocument/2006/relationships/hyperlink" Target="mailto:gg@cmu.edu" TargetMode="External"/><Relationship Id="rId5" Type="http://schemas.openxmlformats.org/officeDocument/2006/relationships/hyperlink" Target="mailto:jj@cmu.edu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66680" y="1752480"/>
            <a:ext cx="73152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Exercise: Using the Instructor Support Tool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reating a Class Roster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1"/>
          <a:srcRect l="756" t="9701" r="11272" b="16585"/>
          <a:stretch/>
        </p:blipFill>
        <p:spPr>
          <a:xfrm>
            <a:off x="1055520" y="1712880"/>
            <a:ext cx="73184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reating a Class Roster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actice entering a class rost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en the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Manage Classe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reate a new class with yourself as the instructor, your organization, class name, and today’s d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roll the following students in your cla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ose the form when finish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Times New Roman"/>
              <a:buChar char=" 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Times New Roman"/>
              <a:buChar char=" 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 #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-mail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ho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Times New Roman"/>
              <a:buChar char=" 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nald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1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Wingdings"/>
                <a:ea typeface="Wingdings"/>
              </a:rPr>
              <a:t>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dd@cmu.edu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55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Times New Roman"/>
              <a:buChar char=" 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sa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2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Wingdings"/>
                <a:ea typeface="Wingdings"/>
              </a:rPr>
              <a:t>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ss@cmu.edu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55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Times New Roman"/>
              <a:buChar char=" 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3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Wingdings"/>
                <a:ea typeface="Wingdings"/>
              </a:rPr>
              <a:t>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3"/>
              </a:rPr>
              <a:t>tt@cmu.edu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55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Times New Roman"/>
              <a:buChar char=" 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reta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4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Wingdings"/>
                <a:ea typeface="Wingdings"/>
              </a:rPr>
              <a:t>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4"/>
              </a:rPr>
              <a:t>gg@cmu.edu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554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Times New Roman"/>
              <a:buChar char=" 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aso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Wingdings"/>
                <a:ea typeface="Wingdings"/>
              </a:rPr>
              <a:t>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5"/>
              </a:rPr>
              <a:t>jj@cmu.edu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55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pdating Student Data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the students complete assignments, you need to update the student data in the instructor support too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pen the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Student Statu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form and in the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dropdown list, select your clas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lect the student to be updat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you have an MDB student assignment file,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ick on the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Update Student (Access)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avigate to the student’s assignment MDB fil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lect the MDB file and click O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the student name in the MDB file matches the name of the selected student, the update is perform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the student name in the MDB file does not match the name of the selected student, you are asked to confirm the updat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pdating Student Data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data from the project summary reports into the appropriate student fi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eck the data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n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f-consistenc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rrectn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9" name="Picture 16" descr=""/>
          <p:cNvPicPr/>
          <p:nvPr/>
        </p:nvPicPr>
        <p:blipFill>
          <a:blip r:embed="rId1"/>
          <a:srcRect l="8427" t="7427" r="30929" b="32667"/>
          <a:stretch/>
        </p:blipFill>
        <p:spPr>
          <a:xfrm>
            <a:off x="3610080" y="2603520"/>
            <a:ext cx="47527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pdating Student Data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r have an Excel Stu1.xls (or StuN.xls) file,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on the Update Student (Excel) butt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vigate to the student’s StuN.xls fi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the XLS file and click O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student name in the XLS file matches the name of the student you selected, the update is perform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student name in the XLS file does not match the name of the student you selected, you are asked to confirm the upd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pdating Student Data -4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data may also be updated manual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ing on a student name will bring up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PSP Student Data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. You may manually enter a student’s assignment data in this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6726" t="26606" r="6853" b="18729"/>
          <a:stretch/>
        </p:blipFill>
        <p:spPr>
          <a:xfrm>
            <a:off x="1019160" y="3584520"/>
            <a:ext cx="73756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pdating Student Data -5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actice updating studen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en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Student Statu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Instructo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dropdown, select your cla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 the student data for each of the stud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DB student assignment files are on your student CD in the “Ex1 Data folder.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example, Donald’s data is in “\Student CD\Ex 1 Data\Donald PSP Student Workbook.2006.03.31\PSP Assignments MDB\PSP Assignments_be.mdb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cking Student Statu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17360" y="14475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assignment status is maintained on the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Student Statu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for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re is a column to record the status of each assignme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 – indicates submitted (shows blue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 – indicates returned for correction (shows red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 – indicates accepted and data entered (shows green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&lt;space&gt; - clears the assignment statu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rcRect l="10074" t="13534" r="9889" b="48841"/>
          <a:stretch/>
        </p:blipFill>
        <p:spPr>
          <a:xfrm>
            <a:off x="1057320" y="3919680"/>
            <a:ext cx="73915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cking Student Statu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actice setting the status for the stud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en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Student Status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the status of all students to “Entered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eriment with “Submitted” and “Returned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ose the fo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Reviewing or Presenting Class Data -1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review class data, open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Data Chart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top of the form are the selectors for the class(e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bottom of the form are the selectors for the ch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rcRect l="920" t="10621" r="4204" b="4260"/>
          <a:stretch/>
        </p:blipFill>
        <p:spPr>
          <a:xfrm>
            <a:off x="2673360" y="3583080"/>
            <a:ext cx="38955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Reviewing or Presenting Class Data -2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the data for the charts first, using the top selecto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select a specific class, open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Dat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dropdown and select the cla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view multiple classes, start with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Instructo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dropdown on the lef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no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Instructo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selected, all classes in the tool are displayed as one super “Class”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ing an instructor, narrows the selection to all classes taught by the selected instruct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urther narrowing of the selection is accomplished by using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Organizatio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and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Clas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selecto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Reviewing or Presenting Class Data -3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itial chart shows the number of assignments for each program that are used on the following ch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two ways to navigate the ch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Char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dropdown may be used to go directly to any cha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ecord navigator may be used to move sequentially through the charts or to the first or last cha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1697" t="83277" r="57422" b="4095"/>
          <a:stretch/>
        </p:blipFill>
        <p:spPr>
          <a:xfrm>
            <a:off x="2440080" y="4875120"/>
            <a:ext cx="40147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ile Time Analysi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17360" y="14475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rcRect l="4800" t="24228" r="4800" b="3477"/>
          <a:stretch/>
        </p:blipFill>
        <p:spPr>
          <a:xfrm>
            <a:off x="695160" y="1582560"/>
            <a:ext cx="798372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ime Estimate Error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4800" t="24360" r="4800" b="3609"/>
          <a:stretch/>
        </p:blipFill>
        <p:spPr>
          <a:xfrm>
            <a:off x="695160" y="1603440"/>
            <a:ext cx="79012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dividual Student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835360" y="3086280"/>
            <a:ext cx="45021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Do not discuss, reveal, or even hint at any one student’s data values or quality to anyone but that stude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7" name="Freeform 5"/>
          <p:cNvSpPr/>
          <p:nvPr/>
        </p:nvSpPr>
        <p:spPr>
          <a:xfrm>
            <a:off x="1373040" y="3083040"/>
            <a:ext cx="1393920" cy="12445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878" h="784">
                <a:moveTo>
                  <a:pt x="0" y="0"/>
                </a:moveTo>
                <a:lnTo>
                  <a:pt x="877" y="0"/>
                </a:lnTo>
                <a:lnTo>
                  <a:pt x="438" y="783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897560" y="3019320"/>
            <a:ext cx="3326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60"/>
                <a:tab algn="l" pos="291960"/>
                <a:tab algn="l" pos="438120"/>
                <a:tab algn="l" pos="584280"/>
                <a:tab algn="l" pos="730080"/>
                <a:tab algn="l" pos="876240"/>
                <a:tab algn="l" pos="1022400"/>
                <a:tab algn="l" pos="116856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endParaRPr b="0" lang="en-US" sz="69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5247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viewing Individual Student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review individual student data, select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Show Student Data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radio butt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brings up a student selector and navigation butt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either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Studen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dropdown or the record navigation buttons to select the desired stud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41577" t="84460" r="6290" b="5113"/>
          <a:stretch/>
        </p:blipFill>
        <p:spPr>
          <a:xfrm>
            <a:off x="1917720" y="4722840"/>
            <a:ext cx="511956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ime Estimate Error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individual student charts, answer the following ques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as student 1’s error on program 3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as the class minimum error for program 1? For program 2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inting Class Data Char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pen the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Data Chart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form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lect the “Class” using the selectors at the top of the form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ick on the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Print Chart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button at the bottom of the form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is brings up a preview window of the Charts that you may review before print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either the Print command on the File menu or Control-P to print the charts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rint dialog can be used to selectively print char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port and Import Class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structor Support Tool allows you to export a class to an XML file and to import a class from an XML fi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export a class, open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Manage Classe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navigator buttons at the bottom of the form, select the class to be exported and click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Export Class (XML)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butt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file dialog window, select the folder and file name. Then click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Sav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n exercise, export the class you crea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port and Import Class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import a class, open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Manage Classe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Import Class (XML)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butt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file dialog window, select the folder and file to be imported. Then click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OK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n exercise, import the class you just expor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tructor Support Too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urpose of the tool is to help you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intain the class rost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intain student statu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ore the studen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class and individual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eat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tabase (Acces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size is unlimi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s multiple cla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s the standard PSP data cha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s data import from the PSP student workbook (Access and Excel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s import and export of classes via XM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bmitting Class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part of your authorization, you are required to submit the data from each class you te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Export Class (XML) function to create an XML data file for the SEI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 the data submission process to send the XML file to the SEI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roster is entered in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Manage Classes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 or remove students with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Include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checkbox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assignment status is kept in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Student Statu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data is updated from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Student Statu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is presented using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Data Chart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tructor Support Too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720" y="1709640"/>
            <a:ext cx="37065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ree main fun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up a cla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 student assignment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iew class and individual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rcRect l="9441" t="22146" r="18350" b="13906"/>
          <a:stretch/>
        </p:blipFill>
        <p:spPr>
          <a:xfrm>
            <a:off x="4975200" y="1782720"/>
            <a:ext cx="37227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is exercis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up instructor support tool for a new cla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 individual student data and student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iew class and student data cha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ort and import class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consists of the following activ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the Instructor Support Too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tool op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a class rost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 data for five stud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class data ch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two attributes of the data in detai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ort and import the class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tall and Start the Support Too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all the Instructor Support Too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en the Support Tool fold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uble click on PSPInstr.ms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the installation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en the PSP Instructor Support Too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get a security dialog about allowing “unsafe expressions”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pond “No”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get a security warning that the file may contain code that will harm your computer, do you want to open it?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pond “Open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t Tool Op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17720" y="1709640"/>
            <a:ext cx="34509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the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Tool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menu, select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Op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Number of Assignment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, select the number for your cla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now, leave the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Program Data Include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checkboxes se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ose the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Option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e, if you have Access 2007, click on the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Add-In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to reveal the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Tool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menu it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rcRect l="12617" t="18944" r="14666" b="13174"/>
          <a:stretch/>
        </p:blipFill>
        <p:spPr>
          <a:xfrm>
            <a:off x="4533840" y="1755720"/>
            <a:ext cx="41022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reating a Class Roster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start of each class, you need to make a new class rost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en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Manage Classe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 and create a new cla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ype in the class information at the top of the fo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na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ype in the stud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numb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istration status – (include checkbox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-mail address (optional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hone number (optional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09Z</dcterms:modified>
  <cp:revision>210</cp:revision>
  <dc:subject/>
  <dc:title>No Slide Title</dc:title>
</cp:coreProperties>
</file>